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742A-8ABD-4493-AAE7-103553493FAE}"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1"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B7BE-C3F4-45E8-81AB-14DAF53297A2}"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9FC56-2F3F-4611-837A-324C85AD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EAF8-2622-467B-8701-E04433219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8D2A3-D5F7-448B-99F6-0A8A2B161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F815B-4214-448C-9F28-CD17EBA57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FF8E-EB8E-4B6E-A596-5DE6CCFB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3976-EC7D-4140-92FE-F7EB9F4D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A1B5-66F2-4880-825A-0F680CD7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B96F9-6245-4BCF-8278-5B9EF635B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5841-9637-42DF-837D-8C6C0A5B3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1927-A53D-46A3-974B-7474EEF0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4622-ADC5-416F-A453-1C8A2424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999E-8792-40B5-9BAA-49A68472A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CE6A-47E6-4570-AB5B-BA4E9D83F939}"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981000"/>
            <a:ext cx="2643120" cy="5715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286080" y="857160"/>
            <a:ext cx="2643120" cy="578664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227640" y="907920"/>
            <a:ext cx="2605320" cy="576108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64312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97000"/>
            <a:ext cx="2521080" cy="41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Ihmiset motivoituvat elämänsä erivaiheissa erilaisista asioista. Yksilöä motivoivat asiat voivat muuttua uran aikana moneen kertaan. Siksi esimiehen tulee oppia tunnistamaan ne asiat, jotka vaikuttavat asiantuntijan motivaatioo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sisältä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et voimat,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nan, mikä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don, mitkä tekijät yksilössä ja ympäristössä joko vahvistavat nykyistä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hallinen palkitseminen on vain yksi työkalu työssä motivoimiseen. Työmotivaatiossa on kysymys laajoista  motivaatioverkostoista, jotka sisältävät ulkoiset eli helposti tunnistettavat, sisäiset, osittain tiedostamattomat ja tunneperäiset. Nykyäänkään ei tunneta yhtä selkeää, yhteisesti hyväksyttyä motivaatioteori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jattelutoiminnat tukevat tavoitteita, yksilölliset motiivihierarkiat, suoriutuminen, sisä- ja ulkosyntyinen motivaatio, tulevaisuuden toiveet ja pelot, henkilökohtaiset tavoitteet, tarpeet ja niiden tyydyttämin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mentava esimies delegoi ohjauksen ja tuen avulla tehtävät asiantuntijan kykyjen mukaan (Kuva 1).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07920"/>
            <a:ext cx="2087640" cy="1542960"/>
            <a:chOff x="3564000" y="907920"/>
            <a:chExt cx="2087640" cy="1542960"/>
          </a:xfrm>
        </p:grpSpPr>
        <p:grpSp>
          <p:nvGrpSpPr>
            <p:cNvPr id="55" name="Ryhmä 12"/>
            <p:cNvGrpSpPr/>
            <p:nvPr/>
          </p:nvGrpSpPr>
          <p:grpSpPr>
            <a:xfrm>
              <a:off x="3913560" y="1105560"/>
              <a:ext cx="1325520" cy="1111320"/>
              <a:chOff x="3913560" y="1105560"/>
              <a:chExt cx="1325520" cy="1111320"/>
            </a:xfrm>
          </p:grpSpPr>
          <p:sp>
            <p:nvSpPr>
              <p:cNvPr id="56" name="Ellipsi 13"/>
              <p:cNvSpPr/>
              <p:nvPr/>
            </p:nvSpPr>
            <p:spPr>
              <a:xfrm>
                <a:off x="3913560" y="1105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17072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56348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0500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0792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227640" y="580536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00720" y="595008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381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443640" y="5373720"/>
            <a:ext cx="221472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348000" y="2687760"/>
            <a:ext cx="2519280" cy="320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vat työntekijöiden sekä organisaation oppiminen ja kasvu. Tiedollinen ja taidollinen asiantuntijuus ei lisää organisaation menestystä. Menestykseen tarvitaan organisaation parhaaksi toimimaan motivoituneita henkilöitä, joilla on myös toiminta- ja päätöksentekovapautta. Tällainen ilmapiiri edistää työntekijän motivaatiota ja aloitteellisuutta. Työntekijät tarvitsevat nopeaa ja oikea-aikaista palautetta tekemästään työstä, oli se sitten tuote tai palvelu. Vain tällaisen palautteen avulla voidaan odottaa työntekijöiden parantavan suorituksiaan, eliminoivan virheitään vähentääkseen kustannuksia ja säästääkseen aika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 tarjoamalla työntekijöille mahdollisuuksia omaa työtä koskevien päätösten tekemiseen ja työntekijöiden näkökulmien hyväksymisellä.</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oimi pitkän ajan motivaation lähteenä, mutta se voi olla tyytymättömyyden syy. Palkan vaikutus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ipumust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276720" y="2492280"/>
            <a:ext cx="2663640" cy="1447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grpSp>
        <p:nvGrpSpPr>
          <p:cNvPr id="67" name="Ryhmä 35"/>
          <p:cNvGrpSpPr/>
          <p:nvPr/>
        </p:nvGrpSpPr>
        <p:grpSpPr>
          <a:xfrm>
            <a:off x="6804000" y="3645000"/>
            <a:ext cx="1500120" cy="1714320"/>
            <a:chOff x="6804000" y="3645000"/>
            <a:chExt cx="1500120" cy="1714320"/>
          </a:xfrm>
        </p:grpSpPr>
        <p:sp>
          <p:nvSpPr>
            <p:cNvPr id="68" name="Suorakulmio 102"/>
            <p:cNvSpPr/>
            <p:nvPr/>
          </p:nvSpPr>
          <p:spPr>
            <a:xfrm>
              <a:off x="687528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uorakulmio 103"/>
            <p:cNvSpPr/>
            <p:nvPr/>
          </p:nvSpPr>
          <p:spPr>
            <a:xfrm>
              <a:off x="6875280" y="5073840"/>
              <a:ext cx="1357560" cy="285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70" name="Suorakulmio 104"/>
            <p:cNvSpPr/>
            <p:nvPr/>
          </p:nvSpPr>
          <p:spPr>
            <a:xfrm>
              <a:off x="723240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5"/>
            <p:cNvSpPr/>
            <p:nvPr/>
          </p:nvSpPr>
          <p:spPr>
            <a:xfrm>
              <a:off x="758988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uorakulmio 106"/>
            <p:cNvSpPr/>
            <p:nvPr/>
          </p:nvSpPr>
          <p:spPr>
            <a:xfrm>
              <a:off x="7947000" y="4216320"/>
              <a:ext cx="285480" cy="785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kstikehys 29"/>
            <p:cNvSpPr/>
            <p:nvPr/>
          </p:nvSpPr>
          <p:spPr>
            <a:xfrm>
              <a:off x="6804000" y="4287960"/>
              <a:ext cx="428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74" name="Tekstikehys 30"/>
            <p:cNvSpPr/>
            <p:nvPr/>
          </p:nvSpPr>
          <p:spPr>
            <a:xfrm>
              <a:off x="7161120" y="4287960"/>
              <a:ext cx="42840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  pidä yhtei- sölli-syyttä</a:t>
              </a:r>
              <a:endParaRPr b="0" lang="en-US" sz="500" spc="-1" strike="noStrike">
                <a:solidFill>
                  <a:srgbClr val="000000"/>
                </a:solidFill>
                <a:latin typeface="Arial"/>
              </a:endParaRPr>
            </a:p>
          </p:txBody>
        </p:sp>
        <p:sp>
          <p:nvSpPr>
            <p:cNvPr id="75" name="Tekstikehys 31"/>
            <p:cNvSpPr/>
            <p:nvPr/>
          </p:nvSpPr>
          <p:spPr>
            <a:xfrm>
              <a:off x="7518240" y="4287960"/>
              <a:ext cx="4284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76" name="Tekstikehys 32"/>
            <p:cNvSpPr/>
            <p:nvPr/>
          </p:nvSpPr>
          <p:spPr>
            <a:xfrm>
              <a:off x="7875720" y="428796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7" name="Tasakylkinen kolmio 111"/>
            <p:cNvSpPr/>
            <p:nvPr/>
          </p:nvSpPr>
          <p:spPr>
            <a:xfrm>
              <a:off x="6875280" y="3645000"/>
              <a:ext cx="135756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8" name="Suorakulmio 112"/>
            <p:cNvSpPr/>
            <p:nvPr/>
          </p:nvSpPr>
          <p:spPr>
            <a:xfrm>
              <a:off x="6875280" y="3859200"/>
              <a:ext cx="135756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grpSp>
      <p:sp>
        <p:nvSpPr>
          <p:cNvPr id="79" name="Suorakulmio 75"/>
          <p:cNvSpPr/>
          <p:nvPr/>
        </p:nvSpPr>
        <p:spPr>
          <a:xfrm>
            <a:off x="622764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80" name="Ryhmä 82"/>
          <p:cNvGrpSpPr/>
          <p:nvPr/>
        </p:nvGrpSpPr>
        <p:grpSpPr>
          <a:xfrm>
            <a:off x="684360" y="5352120"/>
            <a:ext cx="1800000" cy="1067760"/>
            <a:chOff x="684360" y="5352120"/>
            <a:chExt cx="1800000" cy="1067760"/>
          </a:xfrm>
        </p:grpSpPr>
        <p:grpSp>
          <p:nvGrpSpPr>
            <p:cNvPr id="81" name="Ryhmä 61"/>
            <p:cNvGrpSpPr/>
            <p:nvPr/>
          </p:nvGrpSpPr>
          <p:grpSpPr>
            <a:xfrm>
              <a:off x="684360" y="5352120"/>
              <a:ext cx="1800000" cy="1067760"/>
              <a:chOff x="684360" y="5352120"/>
              <a:chExt cx="1800000" cy="1067760"/>
            </a:xfrm>
          </p:grpSpPr>
          <p:sp>
            <p:nvSpPr>
              <p:cNvPr id="82" name="Pyöristetty suorakulmio 62"/>
              <p:cNvSpPr/>
              <p:nvPr/>
            </p:nvSpPr>
            <p:spPr>
              <a:xfrm>
                <a:off x="892080" y="537372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83" name="Pyöristetty suorakulmio 63"/>
              <p:cNvSpPr/>
              <p:nvPr/>
            </p:nvSpPr>
            <p:spPr>
              <a:xfrm>
                <a:off x="1722600" y="537372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84" name="Pyöristetty suorakulmio 64"/>
              <p:cNvSpPr/>
              <p:nvPr/>
            </p:nvSpPr>
            <p:spPr>
              <a:xfrm>
                <a:off x="892080" y="584820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85" name="Pyöristetty suorakulmio 65"/>
              <p:cNvSpPr/>
              <p:nvPr/>
            </p:nvSpPr>
            <p:spPr>
              <a:xfrm>
                <a:off x="1722600" y="5848200"/>
                <a:ext cx="761760" cy="355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86" name="Tekstikehys 66"/>
              <p:cNvSpPr/>
              <p:nvPr/>
            </p:nvSpPr>
            <p:spPr>
              <a:xfrm rot="16200000">
                <a:off x="320760" y="571536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87" name="Tekstikehys 67"/>
              <p:cNvSpPr/>
              <p:nvPr/>
            </p:nvSpPr>
            <p:spPr>
              <a:xfrm>
                <a:off x="1168920" y="6204240"/>
                <a:ext cx="1107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88" name="Kaarinuoli alas 68"/>
            <p:cNvSpPr/>
            <p:nvPr/>
          </p:nvSpPr>
          <p:spPr>
            <a:xfrm rot="19941600">
              <a:off x="1169640" y="556992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aarinuoli alas 69"/>
            <p:cNvSpPr/>
            <p:nvPr/>
          </p:nvSpPr>
          <p:spPr>
            <a:xfrm flipV="1" rot="19942200">
              <a:off x="1370160" y="580968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Picture 73" descr="EB"/>
          <p:cNvPicPr/>
          <p:nvPr/>
        </p:nvPicPr>
        <p:blipFill>
          <a:blip r:embed="rId2"/>
          <a:stretch/>
        </p:blipFill>
        <p:spPr>
          <a:xfrm>
            <a:off x="8459640" y="254160"/>
            <a:ext cx="339840" cy="322200"/>
          </a:xfrm>
          <a:prstGeom prst="rect">
            <a:avLst/>
          </a:prstGeom>
          <a:ln w="0">
            <a:noFill/>
          </a:ln>
        </p:spPr>
      </p:pic>
      <p:sp>
        <p:nvSpPr>
          <p:cNvPr id="91"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8" descr=""/>
          <p:cNvPicPr/>
          <p:nvPr/>
        </p:nvPicPr>
        <p:blipFill>
          <a:blip r:embed="rId3"/>
          <a:stretch/>
        </p:blipFill>
        <p:spPr>
          <a:xfrm>
            <a:off x="7740720" y="189000"/>
            <a:ext cx="538200" cy="588960"/>
          </a:xfrm>
          <a:prstGeom prst="rect">
            <a:avLst/>
          </a:prstGeom>
          <a:ln w="0">
            <a:noFill/>
          </a:ln>
        </p:spPr>
      </p:pic>
      <p:pic>
        <p:nvPicPr>
          <p:cNvPr id="97" name="Picture 79" descr=""/>
          <p:cNvPicPr/>
          <p:nvPr/>
        </p:nvPicPr>
        <p:blipFill>
          <a:blip r:embed="rId4"/>
          <a:stretch/>
        </p:blipFill>
        <p:spPr>
          <a:xfrm>
            <a:off x="179280" y="212760"/>
            <a:ext cx="1506600" cy="738000"/>
          </a:xfrm>
          <a:prstGeom prst="rect">
            <a:avLst/>
          </a:prstGeom>
          <a:ln w="0">
            <a:noFill/>
          </a:ln>
        </p:spPr>
      </p:pic>
      <p:sp>
        <p:nvSpPr>
          <p:cNvPr id="98" name="Tekstikehys 81"/>
          <p:cNvSpPr/>
          <p:nvPr/>
        </p:nvSpPr>
        <p:spPr>
          <a:xfrm>
            <a:off x="6300720" y="1125360"/>
            <a:ext cx="2448000" cy="25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hteisöllisyyden tunne ja mahdollisuus saada palautetta työstään säännöllisesti ovat sisäisen motivaation tärkeitä osatekijä. Yhteisöllisyyden ja ryhmään kuulumisen tunnetta voidaan vahvistaa säännöllisillä esimiehen tai projektipäällikön ja asiantuntijoiden yhteyksillä, joissa on mahdollista saada ja antaa palautetta, kertoa kuulumiset ja päivittää työtilanne. Virallisten tiimipalavereiden lisäksi on hyvä tarjota työntekijöille esimerkiksi kerran viikossa vapaamuotoinen mahdollisuus kohdata fyysisesti kaukanakin olevat esimies, projektipäällikkö ja kolleg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iveMeeting tarjoaa tähän sähköisen tutun ja helpon ympäristön. Säännöllisillä virtuaalisilla tapaamisilla tarjotaan ympäristö mm. palautteelle, huomioimiselle, vertaistuelle, hiljaisen tiedon välittämiselle ja ideoiden synnyttämiselle.</a:t>
            </a:r>
            <a:br>
              <a:rPr sz="500"/>
            </a:br>
            <a:br>
              <a:rPr sz="500"/>
            </a:br>
            <a:r>
              <a:rPr b="0" lang="fi-FI" sz="500" spc="-1" strike="noStrike">
                <a:solidFill>
                  <a:srgbClr val="000000"/>
                </a:solidFill>
                <a:latin typeface="Calibri"/>
              </a:rPr>
              <a:t>Ohjeet esimiehelle ja projektipäällikölle asiantuntijan motivaation tukemiseen (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1. Tunne yksilölliset motivaatiotekijät. Esimiehen on hyvä tuntea tekijät, joista motivaatio syntyy ja tunnistaa ne alaisissaan. Esimiehen tulee tukea asiantuntijan motivaatiota mm. realistisilla tehtävänannoilla sekä onnistumisen mahdollisuuksilla. Motivaatiota ylläpidetään palautteella ja rohkaisull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 tulee luoda tilanteita, joissa asiantuntijat pääsevät vaikuttamaan asioihin, tekemään päätöksiä ja kantamaan vastuuta. Välitavoitteet mahdollistavat oikea-aikaisen palautteen antamisen.</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br>
              <a:rPr sz="500"/>
            </a:br>
            <a:r>
              <a:rPr b="0" lang="fi-FI" sz="500" spc="-1" strike="noStrike">
                <a:solidFill>
                  <a:srgbClr val="000000"/>
                </a:solidFill>
                <a:latin typeface="Calibri"/>
              </a:rPr>
              <a:t>Esimiehe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 pitää olla kiinnostunut asiantuntijoiden tekemisistä. Kukaan ei elä kiitoksilla, mutta niitä ei tule säästellä. Asiantuntija kaipaa myös valmennusta ja koulutus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25T04:32:09Z</dcterms:modified>
  <cp:revision>73</cp:revision>
  <dc:subject/>
  <dc:title>Dia 1</dc:title>
</cp:coreProperties>
</file>